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B6C-71B8-4C1E-ADE8-932084D0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CCD-8015-4524-A419-EF4B64C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8AC-1F15-4592-AC3D-A013B8B0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4E2-4CA4-46FC-BB45-79FC7BF2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26D-FCF0-4DE4-AD86-022E537D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28F-0EBD-410E-B271-0D1E3AC3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0FC-34BA-4A41-B818-DF936982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957-A446-464E-A7A0-4F509063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92E-5B1D-441C-82E8-09AEB40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C39-D421-4DE9-AE01-CEC78E2A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432C-1E8C-40D1-A6FA-BF03077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6981-CA6B-405B-A793-FAC53B9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F98A-0B44-4E49-B425-0C86264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92AD-B329-4B0F-AAA6-D96A3FD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8D6C-03AE-4696-BA4D-0F6B9B7D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2727-8773-4A64-99B2-A51951C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CACC-98A5-42E3-BB1B-0FA8694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A87-856D-4336-8F08-E9768F8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881-3281-4270-8075-75CC450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3A5-8A9C-4D29-92DB-DCC91E1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4594-1B43-45E9-839A-1CB725C1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693-B6B6-465F-9C7D-D351E95F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E59-FDF3-466E-8E59-810DB9E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B35-F209-4C2F-BA9E-D9A3856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17080" y="4820760"/>
            <a:ext cx="792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2F24-C754-4EAA-8F48-DB9A0A2B588C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Bild 7" descr="Fond_03.jpg"/>
          <p:cNvPicPr/>
          <p:nvPr/>
        </p:nvPicPr>
        <p:blipFill>
          <a:blip r:embed="rId3"/>
          <a:stretch/>
        </p:blipFill>
        <p:spPr>
          <a:xfrm>
            <a:off x="-7920" y="0"/>
            <a:ext cx="9151920" cy="514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4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b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5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cd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6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4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5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87D-40F7-48A6-B4EE-1C8882F34880}" type="datetime">
              <a:rPr b="0" lang="en-GB" sz="900" spc="-1" strike="noStrike">
                <a:solidFill>
                  <a:srgbClr val="002b5c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40C-8167-4313-BF15-7D969A957413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nationale-gremien/wdc-grem:din21:54748228" TargetMode="External"/><Relationship Id="rId2" Type="http://schemas.openxmlformats.org/officeDocument/2006/relationships/hyperlink" Target="http://www.din.de/de/mitwirken/normenausschuesse/nqsz/nationale-gremien/wdc-grem:din21:54748179" TargetMode="External"/><Relationship Id="rId3" Type="http://schemas.openxmlformats.org/officeDocument/2006/relationships/hyperlink" Target="http://www.din.de/de/mitwirken/normenausschuesse/nqsz/nationale-gremien/wdc-grem:din21:54748182" TargetMode="External"/><Relationship Id="rId4" Type="http://schemas.openxmlformats.org/officeDocument/2006/relationships/hyperlink" Target="http://www.din.de/de/mitwirken/normenausschuesse/nqsz/nationale-gremien/wdc-grem:din21:54748182" TargetMode="External"/><Relationship Id="rId5" Type="http://schemas.openxmlformats.org/officeDocument/2006/relationships/hyperlink" Target="http://www.din.de/de/mitwirken/normenausschuesse/nqsz/nationale-gremien/wdc-grem:din21:54748182" TargetMode="External"/><Relationship Id="rId6" Type="http://schemas.openxmlformats.org/officeDocument/2006/relationships/hyperlink" Target="http://www.din.de/de/mitwirken/normenausschuesse/nqsz/nationale-gremien/wdc-grem:din21:54749874" TargetMode="External"/><Relationship Id="rId7" Type="http://schemas.openxmlformats.org/officeDocument/2006/relationships/hyperlink" Target="http://www.din.de/de/mitwirken/normenausschuesse/nqsz/nationale-gremien/wdc-grem:din21:54743629" TargetMode="External"/><Relationship Id="rId8" Type="http://schemas.openxmlformats.org/officeDocument/2006/relationships/hyperlink" Target="http://www.din.de/de/mitwirken/normenausschuesse/nqsz/nationale-gremien/wdc-grem:din21:98293307" TargetMode="External"/><Relationship Id="rId9" Type="http://schemas.openxmlformats.org/officeDocument/2006/relationships/hyperlink" Target="http://www.din.de/de/mitwirken/normenausschuesse/nqsz/nationale-gremien/wdc-grem:din21:106179018" TargetMode="External"/><Relationship Id="rId10" Type="http://schemas.openxmlformats.org/officeDocument/2006/relationships/hyperlink" Target="http://www.din.de/de/mitwirken/normenausschuesse/nqsz/nationale-gremien/wdc-grem:din21:106179018" TargetMode="External"/><Relationship Id="rId11" Type="http://schemas.openxmlformats.org/officeDocument/2006/relationships/hyperlink" Target="http://www.din.de/de/mitwirken/normenausschuesse/nqsz/nationale-gremien/wdc-grem:din21:106179018" TargetMode="External"/><Relationship Id="rId12" Type="http://schemas.openxmlformats.org/officeDocument/2006/relationships/hyperlink" Target="http://www.din.de/de/mitwirken/normenausschuesse/nqsz/nationale-gremien/wdc-grem:din21:106179018" TargetMode="External"/><Relationship Id="rId13" Type="http://schemas.openxmlformats.org/officeDocument/2006/relationships/hyperlink" Target="http://www.din.de/de/mitwirken/normenausschuesse/nqsz/nationale-gremien/wdc-grem:din21:106179018" TargetMode="External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nationale-gremien/wdc-grem:din21:54748228" TargetMode="External"/><Relationship Id="rId2" Type="http://schemas.openxmlformats.org/officeDocument/2006/relationships/hyperlink" Target="http://www.din.de/de/mitwirken/normenausschuesse/nqsz/nationale-gremien/wdc-grem:din21:54748228" TargetMode="External"/><Relationship Id="rId3" Type="http://schemas.openxmlformats.org/officeDocument/2006/relationships/hyperlink" Target="http://www.din.de/de/mitwirken/normenausschuesse/nqsz/nationale-gremien/wdc-grem:din21:54748179" TargetMode="External"/><Relationship Id="rId4" Type="http://schemas.openxmlformats.org/officeDocument/2006/relationships/hyperlink" Target="http://www.din.de/de/mitwirken/normenausschuesse/nqsz/nationale-gremien/wdc-grem:din21:54748179" TargetMode="External"/><Relationship Id="rId5" Type="http://schemas.openxmlformats.org/officeDocument/2006/relationships/hyperlink" Target="http://www.din.de/de/mitwirken/normenausschuesse/nqsz/nationale-gremien/wdc-grem:din21:54748182" TargetMode="External"/><Relationship Id="rId6" Type="http://schemas.openxmlformats.org/officeDocument/2006/relationships/hyperlink" Target="http://www.din.de/de/mitwirken/normenausschuesse/nqsz/nationale-gremien/wdc-grem:din21:54748182" TargetMode="External"/><Relationship Id="rId7" Type="http://schemas.openxmlformats.org/officeDocument/2006/relationships/hyperlink" Target="http://www.din.de/de/mitwirken/normenausschuesse/nqsz/nationale-gremien/wdc-grem:din21:54749874" TargetMode="External"/><Relationship Id="rId8" Type="http://schemas.openxmlformats.org/officeDocument/2006/relationships/hyperlink" Target="http://www.din.de/de/mitwirken/normenausschuesse/nqsz/nationale-gremien/wdc-grem:din21:54749874" TargetMode="External"/><Relationship Id="rId9" Type="http://schemas.openxmlformats.org/officeDocument/2006/relationships/hyperlink" Target="http://www.din.de/de/mitwirken/normenausschuesse/nqsz/nationale-gremien/wdc-grem:din21:54743629" TargetMode="External"/><Relationship Id="rId10" Type="http://schemas.openxmlformats.org/officeDocument/2006/relationships/hyperlink" Target="http://www.din.de/de/mitwirken/normenausschuesse/nqsz/nationale-gremien/wdc-grem:din21:54743629" TargetMode="External"/><Relationship Id="rId11" Type="http://schemas.openxmlformats.org/officeDocument/2006/relationships/hyperlink" Target="http://www.din.de/de/mitwirken/normenausschuesse/nqsz/nationale-gremien/wdc-grem:din21:98293307" TargetMode="External"/><Relationship Id="rId12" Type="http://schemas.openxmlformats.org/officeDocument/2006/relationships/hyperlink" Target="http://www.din.de/de/mitwirken/normenausschuesse/nqsz/nationale-gremien/wdc-grem:din21:98293307" TargetMode="External"/><Relationship Id="rId13" Type="http://schemas.openxmlformats.org/officeDocument/2006/relationships/hyperlink" Target="http://www.din.de/de/mitwirken/normenausschuesse/nqsz/nationale-gremien/wdc-grem:din21:106179018" TargetMode="External"/><Relationship Id="rId14" Type="http://schemas.openxmlformats.org/officeDocument/2006/relationships/hyperlink" Target="http://www.din.de/de/mitwirken/normenausschuesse/nqsz/nationale-gremien/wdc-grem:din21:106179018" TargetMode="External"/><Relationship Id="rId15" Type="http://schemas.openxmlformats.org/officeDocument/2006/relationships/hyperlink" Target="http://www.din.de/de/mitwirken/normenausschuesse/nqsz/nationale-gremien/wdc-grem:din21:106179018" TargetMode="External"/><Relationship Id="rId16" Type="http://schemas.openxmlformats.org/officeDocument/2006/relationships/hyperlink" Target="http://www.din.de/de/mitwirken/normenausschuesse/nqsz/nationale-gremien/wdc-grem:din21:106179018" TargetMode="External"/><Relationship Id="rId1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europaeische-gremien/wdc-grem:din21:54740504" TargetMode="External"/><Relationship Id="rId2" Type="http://schemas.openxmlformats.org/officeDocument/2006/relationships/hyperlink" Target="http://www.din.de/de/mitwirken/normenausschuesse/nqsz/europaeische-gremien/wdc-grem:din21:54740504" TargetMode="External"/><Relationship Id="rId3" Type="http://schemas.openxmlformats.org/officeDocument/2006/relationships/hyperlink" Target="http://www.din.de/de/mitwirken/normenausschuesse/nqsz/europaeische-gremien/wdc-grem:din21:54740504" TargetMode="External"/><Relationship Id="rId4" Type="http://schemas.openxmlformats.org/officeDocument/2006/relationships/hyperlink" Target="http://www.din.de/de/mitwirken/normenausschuesse/nqsz/europaeische-gremien/wdc-grem:din21:54740504" TargetMode="External"/><Relationship Id="rId5" Type="http://schemas.openxmlformats.org/officeDocument/2006/relationships/hyperlink" Target="http://cen.iso.org/livelink/livelink/open/centc279" TargetMode="External"/><Relationship Id="rId6" Type="http://schemas.openxmlformats.org/officeDocument/2006/relationships/hyperlink" Target="http://www.din.de/de/mitwirken/normenausschuesse/nqsz/nationale-gremien/wdc-grem:din21:98293307" TargetMode="External"/><Relationship Id="rId7" Type="http://schemas.openxmlformats.org/officeDocument/2006/relationships/hyperlink" Target="http://www.din.de/de/mitwirken/normenausschuesse/nqsz/europaeische-gremien/wdc-grem:din21:88663159" TargetMode="External"/><Relationship Id="rId8" Type="http://schemas.openxmlformats.org/officeDocument/2006/relationships/hyperlink" Target="http://www.din.de/de/mitwirken/normenausschuesse/nqsz/europaeische-gremien/wdc-grem:din21:88663159" TargetMode="External"/><Relationship Id="rId9" Type="http://schemas.openxmlformats.org/officeDocument/2006/relationships/hyperlink" Target="http://www.din.de/de/mitwirken/normenausschuesse/nqsz/europaeische-gremien/wdc-grem:din21:88663159" TargetMode="External"/><Relationship Id="rId10" Type="http://schemas.openxmlformats.org/officeDocument/2006/relationships/hyperlink" Target="http://www.din.de/de/mitwirken/normenausschuesse/nqsz/europaeische-gremien/wdc-grem:din21:88663159" TargetMode="External"/><Relationship Id="rId11" Type="http://schemas.openxmlformats.org/officeDocument/2006/relationships/hyperlink" Target="http://www.din.de/de/mitwirken/normenausschuesse/nqsz/europaeische-gremien/wdc-grem:din21:88663159" TargetMode="External"/><Relationship Id="rId12" Type="http://schemas.openxmlformats.org/officeDocument/2006/relationships/hyperlink" Target="http://www.din.de/de/mitwirken/normenausschuesse/nqsz/europaeische-gremien/wdc-grem:din21:88663159" TargetMode="External"/><Relationship Id="rId13" Type="http://schemas.openxmlformats.org/officeDocument/2006/relationships/hyperlink" Target="http://www.din.de/de/mitwirken/normenausschuesse/nqsz/europaeische-gremien/wdc-grem:din21:88663159" TargetMode="External"/><Relationship Id="rId14" Type="http://schemas.openxmlformats.org/officeDocument/2006/relationships/hyperlink" Target="http://www.din.de/de/mitwirken/normenausschuesse/nqsz/europaeische-gremien/wdc-grem:din21:88663159" TargetMode="External"/><Relationship Id="rId15" Type="http://schemas.openxmlformats.org/officeDocument/2006/relationships/hyperlink" Target="http://www.din.de/de/mitwirken/normenausschuesse/nqsz/europaeische-gremien/wdc-grem:din21:88663159" TargetMode="External"/><Relationship Id="rId16" Type="http://schemas.openxmlformats.org/officeDocument/2006/relationships/hyperlink" Target="http://www.din.de/de/mitwirken/normenausschuesse/nqsz/europaeische-gremien/wdc-grem:din21:88663159" TargetMode="External"/><Relationship Id="rId17" Type="http://schemas.openxmlformats.org/officeDocument/2006/relationships/hyperlink" Target="http://www.din.de/de/mitwirken/normenausschuesse/nqsz/europaeische-gremien/wdc-grem:din21:88663159" TargetMode="External"/><Relationship Id="rId18" Type="http://schemas.openxmlformats.org/officeDocument/2006/relationships/hyperlink" Target="http://www.din.de/de/mitwirken/normenausschuesse/nqsz/europaeische-gremien/wdc-grem:din21:88663159" TargetMode="External"/><Relationship Id="rId19" Type="http://schemas.openxmlformats.org/officeDocument/2006/relationships/hyperlink" Target="http://cen.iso.org/livelink/livelink/open/centc279wg2" TargetMode="External"/><Relationship Id="rId20" Type="http://schemas.openxmlformats.org/officeDocument/2006/relationships/hyperlink" Target="http://www.din.de/de/mitwirken/normenausschuesse/nqsz/nationale-gremien/wdc-grem:din21:98293307" TargetMode="External"/><Relationship Id="rId21" Type="http://schemas.openxmlformats.org/officeDocument/2006/relationships/hyperlink" Target="http://www.din.de/de/mitwirken/normenausschuesse/nqsz/europaeische-gremien/wdc-grem:din21:118688653" TargetMode="External"/><Relationship Id="rId22" Type="http://schemas.openxmlformats.org/officeDocument/2006/relationships/hyperlink" Target="http://www.din.de/de/mitwirken/normenausschuesse/nqsz/europaeische-gremien/wdc-grem:din21:118688653" TargetMode="External"/><Relationship Id="rId23" Type="http://schemas.openxmlformats.org/officeDocument/2006/relationships/hyperlink" Target="http://www.din.de/de/mitwirken/normenausschuesse/nqsz/europaeische-gremien/wdc-grem:din21:118688653" TargetMode="External"/><Relationship Id="rId24" Type="http://schemas.openxmlformats.org/officeDocument/2006/relationships/hyperlink" Target="http://www.din.de/de/mitwirken/normenausschuesse/nqsz/europaeische-gremien/wdc-grem:din21:118688653" TargetMode="External"/><Relationship Id="rId25" Type="http://schemas.openxmlformats.org/officeDocument/2006/relationships/hyperlink" Target="http://www.din.de/de/mitwirken/normenausschuesse/nqsz/europaeische-gremien/wdc-grem:din21:118688653" TargetMode="External"/><Relationship Id="rId26" Type="http://schemas.openxmlformats.org/officeDocument/2006/relationships/hyperlink" Target="http://www.din.de/de/mitwirken/normenausschuesse/nqsz/europaeische-gremien/wdc-grem:din21:118688653" TargetMode="External"/><Relationship Id="rId27" Type="http://schemas.openxmlformats.org/officeDocument/2006/relationships/hyperlink" Target="http://www.din.de/de/mitwirken/normenausschuesse/nqsz/europaeische-gremien/wdc-grem:din21:118688653" TargetMode="External"/><Relationship Id="rId28" Type="http://schemas.openxmlformats.org/officeDocument/2006/relationships/hyperlink" Target="http://www.din.de/de/mitwirken/normenausschuesse/nqsz/europaeische-gremien/wdc-grem:din21:118688653" TargetMode="External"/><Relationship Id="rId29" Type="http://schemas.openxmlformats.org/officeDocument/2006/relationships/hyperlink" Target="https://ecom.afnor.org/livelink-en/livelink.exe/open/c74926" TargetMode="External"/><Relationship Id="rId30" Type="http://schemas.openxmlformats.org/officeDocument/2006/relationships/hyperlink" Target="http://www.din.de/de/mitwirken/normenausschuesse/nqsz/nationale-gremien/wdc-grem:din21:98293307" TargetMode="External"/><Relationship Id="rId31" Type="http://schemas.openxmlformats.org/officeDocument/2006/relationships/hyperlink" Target="http://www.din.de/de/mitwirken/normenausschuesse/nqsz/europaeische-gremien/wdc-grem:din21:54740829" TargetMode="External"/><Relationship Id="rId32" Type="http://schemas.openxmlformats.org/officeDocument/2006/relationships/hyperlink" Target="http://www.din.de/de/mitwirken/normenausschuesse/nqsz/europaeische-gremien/wdc-grem:din21:54740829" TargetMode="External"/><Relationship Id="rId33" Type="http://schemas.openxmlformats.org/officeDocument/2006/relationships/hyperlink" Target="http://www.din.de/de/mitwirken/normenausschuesse/nqsz/europaeische-gremien/wdc-grem:din21:54740829" TargetMode="External"/><Relationship Id="rId34" Type="http://schemas.openxmlformats.org/officeDocument/2006/relationships/hyperlink" Target="http://www.din.de/de/mitwirken/normenausschuesse/nqsz/europaeische-gremien/wdc-grem:din21:54740829" TargetMode="External"/><Relationship Id="rId35" Type="http://schemas.openxmlformats.org/officeDocument/2006/relationships/hyperlink" Target="http://www.din.de/de/mitwirken/normenausschuesse/nqsz/europaeische-gremien/wdc-grem:din21:54740829" TargetMode="External"/><Relationship Id="rId36" Type="http://schemas.openxmlformats.org/officeDocument/2006/relationships/hyperlink" Target="http://www.din.de/de/mitwirken/normenausschuesse/nqsz/europaeische-gremien/wdc-grem:din21:54740829" TargetMode="External"/><Relationship Id="rId37" Type="http://schemas.openxmlformats.org/officeDocument/2006/relationships/hyperlink" Target="http://www.din.de/de/mitwirken/normenausschuesse/nqsz/europaeische-gremien/wdc-grem:din21:54740829" TargetMode="External"/><Relationship Id="rId38" Type="http://schemas.openxmlformats.org/officeDocument/2006/relationships/hyperlink" Target="http://www.din.de/de/mitwirken/normenausschuesse/nqsz/europaeische-gremien/wdc-grem:din21:54740829" TargetMode="External"/><Relationship Id="rId39" Type="http://schemas.openxmlformats.org/officeDocument/2006/relationships/hyperlink" Target="http://cen.iso.org/livelink/livelink/open/cenclctc1" TargetMode="External"/><Relationship Id="rId40" Type="http://schemas.openxmlformats.org/officeDocument/2006/relationships/hyperlink" Target="http://www.din.de/de/mitwirken/normenausschuesse/nqsz/nationale-gremien/wdc-grem:din21:54749874" TargetMode="External"/><Relationship Id="rId4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europaeische-gremien/wdc-grem:din21:70996672" TargetMode="External"/><Relationship Id="rId2" Type="http://schemas.openxmlformats.org/officeDocument/2006/relationships/hyperlink" Target="http://www.din.de/de/mitwirken/normenausschuesse/nqsz/europaeische-gremien/wdc-grem:din21:70996672" TargetMode="External"/><Relationship Id="rId3" Type="http://schemas.openxmlformats.org/officeDocument/2006/relationships/hyperlink" Target="http://www.din.de/de/mitwirken/normenausschuesse/nqsz/europaeische-gremien/wdc-grem:din21:70996672" TargetMode="External"/><Relationship Id="rId4" Type="http://schemas.openxmlformats.org/officeDocument/2006/relationships/hyperlink" Target="http://www.din.de/de/mitwirken/normenausschuesse/nqsz/europaeische-gremien/wdc-grem:din21:70996672" TargetMode="External"/><Relationship Id="rId5" Type="http://schemas.openxmlformats.org/officeDocument/2006/relationships/hyperlink" Target="http://www.din.de/de/mitwirken/normenausschuesse/nqsz/europaeische-gremien/wdc-grem:din21:70996672" TargetMode="External"/><Relationship Id="rId6" Type="http://schemas.openxmlformats.org/officeDocument/2006/relationships/hyperlink" Target="http://www.din.de/de/mitwirken/normenausschuesse/nqsz/europaeische-gremien/wdc-grem:din21:70996672" TargetMode="External"/><Relationship Id="rId7" Type="http://schemas.openxmlformats.org/officeDocument/2006/relationships/hyperlink" Target="http://www.din.de/de/mitwirken/normenausschuesse/nqsz/europaeische-gremien/wdc-grem:din21:70996672" TargetMode="External"/><Relationship Id="rId8" Type="http://schemas.openxmlformats.org/officeDocument/2006/relationships/hyperlink" Target="http://www.din.de/de/mitwirken/normenausschuesse/nqsz/europaeische-gremien/wdc-grem:din21:70996672" TargetMode="External"/><Relationship Id="rId9" Type="http://schemas.openxmlformats.org/officeDocument/2006/relationships/hyperlink" Target="http://www.din.de/de/mitwirken/normenausschuesse/nqsz/europaeische-gremien/wdc-grem:din21:70996672" TargetMode="External"/><Relationship Id="rId10" Type="http://schemas.openxmlformats.org/officeDocument/2006/relationships/hyperlink" Target="http://www.din.de/de/mitwirken/normenausschuesse/nqsz/nationale-gremien/wdc-grem:din21:54748228" TargetMode="External"/><Relationship Id="rId11" Type="http://schemas.openxmlformats.org/officeDocument/2006/relationships/hyperlink" Target="http://www.din.de/de/mitwirken/normenausschuesse/nqsz/europaeische-gremien/wdc-grem:din21:70997031" TargetMode="External"/><Relationship Id="rId12" Type="http://schemas.openxmlformats.org/officeDocument/2006/relationships/hyperlink" Target="http://www.din.de/de/mitwirken/normenausschuesse/nqsz/europaeische-gremien/wdc-grem:din21:70997031" TargetMode="External"/><Relationship Id="rId13" Type="http://schemas.openxmlformats.org/officeDocument/2006/relationships/hyperlink" Target="http://www.din.de/de/mitwirken/normenausschuesse/nqsz/europaeische-gremien/wdc-grem:din21:70997031" TargetMode="External"/><Relationship Id="rId14" Type="http://schemas.openxmlformats.org/officeDocument/2006/relationships/hyperlink" Target="http://www.din.de/de/mitwirken/normenausschuesse/nqsz/europaeische-gremien/wdc-grem:din21:70997031" TargetMode="External"/><Relationship Id="rId15" Type="http://schemas.openxmlformats.org/officeDocument/2006/relationships/hyperlink" Target="http://www.din.de/de/mitwirken/normenausschuesse/nqsz/europaeische-gremien/wdc-grem:din21:70997031" TargetMode="External"/><Relationship Id="rId16" Type="http://schemas.openxmlformats.org/officeDocument/2006/relationships/hyperlink" Target="http://www.din.de/de/mitwirken/normenausschuesse/nqsz/europaeische-gremien/wdc-grem:din21:70997031" TargetMode="External"/><Relationship Id="rId17" Type="http://schemas.openxmlformats.org/officeDocument/2006/relationships/hyperlink" Target="http://www.din.de/de/mitwirken/normenausschuesse/nqsz/europaeische-gremien/wdc-grem:din21:70997031" TargetMode="External"/><Relationship Id="rId18" Type="http://schemas.openxmlformats.org/officeDocument/2006/relationships/hyperlink" Target="http://www.din.de/de/mitwirken/normenausschuesse/nqsz/europaeische-gremien/wdc-grem:din21:70997031" TargetMode="External"/><Relationship Id="rId19" Type="http://schemas.openxmlformats.org/officeDocument/2006/relationships/hyperlink" Target="http://www.din.de/de/mitwirken/normenausschuesse/nqsz/europaeische-gremien/wdc-grem:din21:70997031" TargetMode="External"/><Relationship Id="rId20" Type="http://schemas.openxmlformats.org/officeDocument/2006/relationships/hyperlink" Target="http://www.din.de/de/mitwirken/normenausschuesse/nqsz/nationale-gremien/wdc-grem:din21:54748228" TargetMode="External"/><Relationship Id="rId21" Type="http://schemas.openxmlformats.org/officeDocument/2006/relationships/hyperlink" Target="http://www.din.de/de/mitwirken/normenausschuesse/nqsz/europaeische-gremien/wdc-grem:din21:54740504" TargetMode="External"/><Relationship Id="rId22" Type="http://schemas.openxmlformats.org/officeDocument/2006/relationships/hyperlink" Target="http://www.din.de/de/mitwirken/normenausschuesse/nqsz/europaeische-gremien/wdc-grem:din21:54740504" TargetMode="External"/><Relationship Id="rId23" Type="http://schemas.openxmlformats.org/officeDocument/2006/relationships/hyperlink" Target="http://www.din.de/de/mitwirken/normenausschuesse/nqsz/europaeische-gremien/wdc-grem:din21:54740504" TargetMode="External"/><Relationship Id="rId24" Type="http://schemas.openxmlformats.org/officeDocument/2006/relationships/hyperlink" Target="http://www.din.de/de/mitwirken/normenausschuesse/nqsz/europaeische-gremien/wdc-grem:din21:54740504" TargetMode="External"/><Relationship Id="rId25" Type="http://schemas.openxmlformats.org/officeDocument/2006/relationships/hyperlink" Target="http://cen.iso.org/livelink/livelink/open/centc279" TargetMode="External"/><Relationship Id="rId26" Type="http://schemas.openxmlformats.org/officeDocument/2006/relationships/hyperlink" Target="http://www.din.de/de/mitwirken/normenausschuesse/nqsz/nationale-gremien/wdc-grem:din21:98293307" TargetMode="External"/><Relationship Id="rId2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internationale-gremien/wdc-grem:din21:147920014" TargetMode="External"/><Relationship Id="rId2" Type="http://schemas.openxmlformats.org/officeDocument/2006/relationships/hyperlink" Target="http://www.din.de/de/mitwirken/normenausschuesse/nqsz/internationale-gremien/wdc-grem:din21:147920014" TargetMode="External"/><Relationship Id="rId3" Type="http://schemas.openxmlformats.org/officeDocument/2006/relationships/hyperlink" Target="http://www.din.de/de/mitwirken/normenausschuesse/nqsz/internationale-gremien/wdc-grem:din21:147920014" TargetMode="External"/><Relationship Id="rId4" Type="http://schemas.openxmlformats.org/officeDocument/2006/relationships/hyperlink" Target="http://www.din.de/de/mitwirken/normenausschuesse/nqsz/internationale-gremien/wdc-grem:din21:147920014" TargetMode="External"/><Relationship Id="rId5" Type="http://schemas.openxmlformats.org/officeDocument/2006/relationships/hyperlink" Target="http://www.din.de/de/mitwirken/normenausschuesse/nqsz/internationale-gremien/wdc-grem:din21:147920014" TargetMode="External"/><Relationship Id="rId6" Type="http://schemas.openxmlformats.org/officeDocument/2006/relationships/hyperlink" Target="http://www.din.de/de/mitwirken/normenausschuesse/nqsz/internationale-gremien/wdc-grem:din21:147920014" TargetMode="External"/><Relationship Id="rId7" Type="http://schemas.openxmlformats.org/officeDocument/2006/relationships/hyperlink" Target="http://isotc.iso.org/livelink/livelink/open/cascosttf" TargetMode="External"/><Relationship Id="rId8" Type="http://schemas.openxmlformats.org/officeDocument/2006/relationships/hyperlink" Target="http://www.din.de/de/mitwirken/normenausschuesse/nqsz/nationale-gremien/wdc-grem:din21:54749874" TargetMode="External"/><Relationship Id="rId9" Type="http://schemas.openxmlformats.org/officeDocument/2006/relationships/hyperlink" Target="http://www.din.de/de/mitwirken/normenausschuesse/nqsz/internationale-gremien/wdc-grem:din21:216751243" TargetMode="External"/><Relationship Id="rId10" Type="http://schemas.openxmlformats.org/officeDocument/2006/relationships/hyperlink" Target="http://www.din.de/de/mitwirken/normenausschuesse/nqsz/internationale-gremien/wdc-grem:din21:216751243" TargetMode="External"/><Relationship Id="rId11" Type="http://schemas.openxmlformats.org/officeDocument/2006/relationships/hyperlink" Target="http://www.din.de/de/mitwirken/normenausschuesse/nqsz/internationale-gremien/wdc-grem:din21:216751243" TargetMode="External"/><Relationship Id="rId12" Type="http://schemas.openxmlformats.org/officeDocument/2006/relationships/hyperlink" Target="http://www.din.de/de/mitwirken/normenausschuesse/nqsz/internationale-gremien/wdc-grem:din21:216751243" TargetMode="External"/><Relationship Id="rId13" Type="http://schemas.openxmlformats.org/officeDocument/2006/relationships/hyperlink" Target="http://isotc.iso.org/livelink/livelink/open/cascowg42" TargetMode="External"/><Relationship Id="rId14" Type="http://schemas.openxmlformats.org/officeDocument/2006/relationships/hyperlink" Target="http://www.din.de/de/mitwirken/normenausschuesse/nqsz/nationale-gremien/wdc-grem:din21:54749874" TargetMode="External"/><Relationship Id="rId15" Type="http://schemas.openxmlformats.org/officeDocument/2006/relationships/hyperlink" Target="http://www.din.de/de/mitwirken/normenausschuesse/nqsz/internationale-gremien/wdc-grem:din21:222736274" TargetMode="External"/><Relationship Id="rId16" Type="http://schemas.openxmlformats.org/officeDocument/2006/relationships/hyperlink" Target="http://www.din.de/de/mitwirken/normenausschuesse/nqsz/internationale-gremien/wdc-grem:din21:222736274" TargetMode="External"/><Relationship Id="rId17" Type="http://schemas.openxmlformats.org/officeDocument/2006/relationships/hyperlink" Target="http://www.din.de/de/mitwirken/normenausschuesse/nqsz/internationale-gremien/wdc-grem:din21:222736274" TargetMode="External"/><Relationship Id="rId18" Type="http://schemas.openxmlformats.org/officeDocument/2006/relationships/hyperlink" Target="http://www.din.de/de/mitwirken/normenausschuesse/nqsz/internationale-gremien/wdc-grem:din21:222736274" TargetMode="External"/><Relationship Id="rId19" Type="http://schemas.openxmlformats.org/officeDocument/2006/relationships/hyperlink" Target="http://isotc.iso.org/livelink/livelink/open/cascowg43" TargetMode="External"/><Relationship Id="rId20" Type="http://schemas.openxmlformats.org/officeDocument/2006/relationships/hyperlink" Target="http://www.din.de/de/mitwirken/normenausschuesse/nqsz/nationale-gremien/wdc-grem:din21:54749874" TargetMode="External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n.de/de/mitwirken/normenausschuesse/nqsz/internationale-gremien/wdc-grem:din21:224896866" TargetMode="External"/><Relationship Id="rId2" Type="http://schemas.openxmlformats.org/officeDocument/2006/relationships/hyperlink" Target="http://www.din.de/de/mitwirken/normenausschuesse/nqsz/internationale-gremien/wdc-grem:din21:224896866" TargetMode="External"/><Relationship Id="rId3" Type="http://schemas.openxmlformats.org/officeDocument/2006/relationships/hyperlink" Target="http://www.din.de/de/mitwirken/normenausschuesse/nqsz/internationale-gremien/wdc-grem:din21:224896866" TargetMode="External"/><Relationship Id="rId4" Type="http://schemas.openxmlformats.org/officeDocument/2006/relationships/hyperlink" Target="http://www.din.de/de/mitwirken/normenausschuesse/nqsz/internationale-gremien/wdc-grem:din21:224896866" TargetMode="External"/><Relationship Id="rId5" Type="http://schemas.openxmlformats.org/officeDocument/2006/relationships/hyperlink" Target="http://isotc.iso.org/livelink/livelink/open/cascowg44" TargetMode="External"/><Relationship Id="rId6" Type="http://schemas.openxmlformats.org/officeDocument/2006/relationships/hyperlink" Target="http://www.din.de/de/mitwirken/normenausschuesse/nqsz/nationale-gremien/wdc-grem:din21:54749874" TargetMode="External"/><Relationship Id="rId7" Type="http://schemas.openxmlformats.org/officeDocument/2006/relationships/hyperlink" Target="http://www.din.de/de/mitwirken/normenausschuesse/nqsz/internationale-gremien/wdc-grem:din21:240787705" TargetMode="External"/><Relationship Id="rId8" Type="http://schemas.openxmlformats.org/officeDocument/2006/relationships/hyperlink" Target="http://www.din.de/de/mitwirken/normenausschuesse/nqsz/internationale-gremien/wdc-grem:din21:240787705" TargetMode="External"/><Relationship Id="rId9" Type="http://schemas.openxmlformats.org/officeDocument/2006/relationships/hyperlink" Target="http://www.din.de/de/mitwirken/normenausschuesse/nqsz/internationale-gremien/wdc-grem:din21:240787705" TargetMode="External"/><Relationship Id="rId10" Type="http://schemas.openxmlformats.org/officeDocument/2006/relationships/hyperlink" Target="http://www.din.de/de/mitwirken/normenausschuesse/nqsz/internationale-gremien/wdc-grem:din21:240787705" TargetMode="External"/><Relationship Id="rId11" Type="http://schemas.openxmlformats.org/officeDocument/2006/relationships/hyperlink" Target="http://www.din.de/de/mitwirken/normenausschuesse/nqsz/internationale-gremien/wdc-grem:din21:240787705" TargetMode="External"/><Relationship Id="rId12" Type="http://schemas.openxmlformats.org/officeDocument/2006/relationships/hyperlink" Target="http://www.din.de/de/mitwirken/normenausschuesse/nqsz/internationale-gremien/wdc-grem:din21:240787705" TargetMode="External"/><Relationship Id="rId13" Type="http://schemas.openxmlformats.org/officeDocument/2006/relationships/hyperlink" Target="http://www.din.de/de/mitwirken/normenausschuesse/nqsz/internationale-gremien/wdc-grem:din21:240787705" TargetMode="External"/><Relationship Id="rId14" Type="http://schemas.openxmlformats.org/officeDocument/2006/relationships/hyperlink" Target="http://www.din.de/de/mitwirken/normenausschuesse/nqsz/internationale-gremien/wdc-grem:din21:240787705" TargetMode="External"/><Relationship Id="rId15" Type="http://schemas.openxmlformats.org/officeDocument/2006/relationships/hyperlink" Target="http://isotc.iso.org/livelink/livelink/open/cascowg45" TargetMode="External"/><Relationship Id="rId16" Type="http://schemas.openxmlformats.org/officeDocument/2006/relationships/hyperlink" Target="http://www.din.de/de/mitwirken/normenausschuesse/nqsz/nationale-gremien/wdc-grem:din21:54749874" TargetMode="External"/><Relationship Id="rId17" Type="http://schemas.openxmlformats.org/officeDocument/2006/relationships/hyperlink" Target="http://www.din.de/de/mitwirken/normenausschuesse/nqsz/internationale-gremien/wdc-grem:din21:242041074" TargetMode="External"/><Relationship Id="rId18" Type="http://schemas.openxmlformats.org/officeDocument/2006/relationships/hyperlink" Target="http://www.din.de/de/mitwirken/normenausschuesse/nqsz/internationale-gremien/wdc-grem:din21:242041074" TargetMode="External"/><Relationship Id="rId19" Type="http://schemas.openxmlformats.org/officeDocument/2006/relationships/hyperlink" Target="http://www.din.de/de/mitwirken/normenausschuesse/nqsz/internationale-gremien/wdc-grem:din21:242041074" TargetMode="External"/><Relationship Id="rId20" Type="http://schemas.openxmlformats.org/officeDocument/2006/relationships/hyperlink" Target="http://www.din.de/de/mitwirken/normenausschuesse/nqsz/internationale-gremien/wdc-grem:din21:242041074" TargetMode="External"/><Relationship Id="rId21" Type="http://schemas.openxmlformats.org/officeDocument/2006/relationships/hyperlink" Target="http://www.din.de/de/mitwirken/normenausschuesse/nqsz/internationale-gremien/wdc-grem:din21:242041074" TargetMode="External"/><Relationship Id="rId22" Type="http://schemas.openxmlformats.org/officeDocument/2006/relationships/hyperlink" Target="http://www.din.de/de/mitwirken/normenausschuesse/nqsz/internationale-gremien/wdc-grem:din21:242041074" TargetMode="External"/><Relationship Id="rId23" Type="http://schemas.openxmlformats.org/officeDocument/2006/relationships/hyperlink" Target="http://www.din.de/de/mitwirken/normenausschuesse/nqsz/internationale-gremien/wdc-grem:din21:242041074" TargetMode="External"/><Relationship Id="rId24" Type="http://schemas.openxmlformats.org/officeDocument/2006/relationships/hyperlink" Target="http://www.din.de/de/mitwirken/normenausschuesse/nqsz/internationale-gremien/wdc-grem:din21:242041074" TargetMode="External"/><Relationship Id="rId25" Type="http://schemas.openxmlformats.org/officeDocument/2006/relationships/hyperlink" Target="http://isotc.iso.org/livelink/livelink?func=committees.memberslist&amp;objid=17310499" TargetMode="External"/><Relationship Id="rId26" Type="http://schemas.openxmlformats.org/officeDocument/2006/relationships/hyperlink" Target="http://www.din.de/de/mitwirken/normenausschuesse/nqsz/nationale-gremien/wdc-grem:din21:54749874" TargetMode="External"/><Relationship Id="rId27" Type="http://schemas.openxmlformats.org/officeDocument/2006/relationships/hyperlink" Target="http://www.din.de/de/mitwirken/normenausschuesse/nqsz/internationale-gremien/wdc-grem:din21:54742002" TargetMode="External"/><Relationship Id="rId28" Type="http://schemas.openxmlformats.org/officeDocument/2006/relationships/hyperlink" Target="http://www.din.de/de/mitwirken/normenausschuesse/nqsz/internationale-gremien/wdc-grem:din21:54742002" TargetMode="External"/><Relationship Id="rId29" Type="http://schemas.openxmlformats.org/officeDocument/2006/relationships/hyperlink" Target="http://www.din.de/de/mitwirken/normenausschuesse/nqsz/internationale-gremien/wdc-grem:din21:54742002" TargetMode="External"/><Relationship Id="rId30" Type="http://schemas.openxmlformats.org/officeDocument/2006/relationships/hyperlink" Target="http://www.din.de/de/mitwirken/normenausschuesse/nqsz/internationale-gremien/wdc-grem:din21:54742002" TargetMode="External"/><Relationship Id="rId31" Type="http://schemas.openxmlformats.org/officeDocument/2006/relationships/hyperlink" Target="http://isotc.iso.org/livelink/livelink?func=ll&amp;objaction=browse&amp;objid=8907333" TargetMode="External"/><Relationship Id="rId32" Type="http://schemas.openxmlformats.org/officeDocument/2006/relationships/hyperlink" Target="http://www.din.de/de/mitwirken/normenausschuesse/nqsz/nationale-gremien/wdc-grem:din21:54748182" TargetMode="External"/><Relationship Id="rId33" Type="http://schemas.openxmlformats.org/officeDocument/2006/relationships/hyperlink" Target="http://www.din.de/de/mitwirken/normenausschuesse/nqsz/internationale-gremien/wdc-grem:din21:91766486" TargetMode="External"/><Relationship Id="rId34" Type="http://schemas.openxmlformats.org/officeDocument/2006/relationships/hyperlink" Target="http://www.din.de/de/mitwirken/normenausschuesse/nqsz/internationale-gremien/wdc-grem:din21:91766486" TargetMode="External"/><Relationship Id="rId35" Type="http://schemas.openxmlformats.org/officeDocument/2006/relationships/hyperlink" Target="http://www.din.de/de/mitwirken/normenausschuesse/nqsz/internationale-gremien/wdc-grem:din21:91766486" TargetMode="External"/><Relationship Id="rId36" Type="http://schemas.openxmlformats.org/officeDocument/2006/relationships/hyperlink" Target="http://www.din.de/de/mitwirken/normenausschuesse/nqsz/internationale-gremien/wdc-grem:din21:91766486" TargetMode="External"/><Relationship Id="rId37" Type="http://schemas.openxmlformats.org/officeDocument/2006/relationships/hyperlink" Target="http://www.din.de/de/mitwirken/normenausschuesse/nqsz/internationale-gremien/wdc-grem:din21:91766486" TargetMode="External"/><Relationship Id="rId38" Type="http://schemas.openxmlformats.org/officeDocument/2006/relationships/hyperlink" Target="http://www.din.de/de/mitwirken/normenausschuesse/nqsz/internationale-gremien/wdc-grem:din21:91766486" TargetMode="External"/><Relationship Id="rId39" Type="http://schemas.openxmlformats.org/officeDocument/2006/relationships/hyperlink" Target="http://www.din.de/de/mitwirken/normenausschuesse/nqsz/internationale-gremien/wdc-grem:din21:91766486" TargetMode="External"/><Relationship Id="rId40" Type="http://schemas.openxmlformats.org/officeDocument/2006/relationships/hyperlink" Target="http://www.din.de/de/mitwirken/normenausschuesse/nqsz/internationale-gremien/wdc-grem:din21:91766486" TargetMode="External"/><Relationship Id="rId41" Type="http://schemas.openxmlformats.org/officeDocument/2006/relationships/hyperlink" Target="http://isotc.iso.org/livelink/livelink/open/tc69cag" TargetMode="External"/><Relationship Id="rId42" Type="http://schemas.openxmlformats.org/officeDocument/2006/relationships/hyperlink" Target="http://www.din.de/de/mitwirken/normenausschuesse/nqsz/nationale-gremien/wdc-grem:din21:54748182" TargetMode="External"/><Relationship Id="rId43" Type="http://schemas.openxmlformats.org/officeDocument/2006/relationships/hyperlink" Target="http://www.din.de/de/mitwirken/normenausschuesse/nqsz/internationale-gremien/wdc-grem:din21:134177969" TargetMode="External"/><Relationship Id="rId44" Type="http://schemas.openxmlformats.org/officeDocument/2006/relationships/hyperlink" Target="http://www.din.de/de/mitwirken/normenausschuesse/nqsz/internationale-gremien/wdc-grem:din21:134177969" TargetMode="External"/><Relationship Id="rId45" Type="http://schemas.openxmlformats.org/officeDocument/2006/relationships/hyperlink" Target="http://www.din.de/de/mitwirken/normenausschuesse/nqsz/internationale-gremien/wdc-grem:din21:134177969" TargetMode="External"/><Relationship Id="rId46" Type="http://schemas.openxmlformats.org/officeDocument/2006/relationships/hyperlink" Target="http://www.din.de/de/mitwirken/normenausschuesse/nqsz/internationale-gremien/wdc-grem:din21:134177969" TargetMode="External"/><Relationship Id="rId47" Type="http://schemas.openxmlformats.org/officeDocument/2006/relationships/hyperlink" Target="http://www.din.de/de/mitwirken/normenausschuesse/nqsz/internationale-gremien/wdc-grem:din21:134177969" TargetMode="External"/><Relationship Id="rId48" Type="http://schemas.openxmlformats.org/officeDocument/2006/relationships/hyperlink" Target="http://www.din.de/de/mitwirken/normenausschuesse/nqsz/internationale-gremien/wdc-grem:din21:134177969" TargetMode="External"/><Relationship Id="rId49" Type="http://schemas.openxmlformats.org/officeDocument/2006/relationships/hyperlink" Target="http://www.din.de/de/mitwirken/normenausschuesse/nqsz/internationale-gremien/wdc-grem:din21:134177969" TargetMode="External"/><Relationship Id="rId50" Type="http://schemas.openxmlformats.org/officeDocument/2006/relationships/hyperlink" Target="http://www.din.de/de/mitwirken/normenausschuesse/nqsz/internationale-gremien/wdc-grem:din21:134177969" TargetMode="External"/><Relationship Id="rId51" Type="http://schemas.openxmlformats.org/officeDocument/2006/relationships/hyperlink" Target="http://www.din.de/de/mitwirken/normenausschuesse/nqsz/internationale-gremien/wdc-grem:din21:134177969" TargetMode="External"/><Relationship Id="rId52" Type="http://schemas.openxmlformats.org/officeDocument/2006/relationships/hyperlink" Target="http://www.din.de/de/mitwirken/normenausschuesse/nqsz/internationale-gremien/wdc-grem:din21:134177969" TargetMode="External"/><Relationship Id="rId53" Type="http://schemas.openxmlformats.org/officeDocument/2006/relationships/hyperlink" Target="http://www.din.de/de/mitwirken/normenausschuesse/nqsz/internationale-gremien/wdc-grem:din21:134177969" TargetMode="External"/><Relationship Id="rId54" Type="http://schemas.openxmlformats.org/officeDocument/2006/relationships/hyperlink" Target="http://www.din.de/de/mitwirken/normenausschuesse/nqsz/internationale-gremien/wdc-grem:din21:134177969" TargetMode="External"/><Relationship Id="rId55" Type="http://schemas.openxmlformats.org/officeDocument/2006/relationships/hyperlink" Target="http://isotc.iso.org/livelink/livelink/open/tc69ahg1" TargetMode="External"/><Relationship Id="rId56" Type="http://schemas.openxmlformats.org/officeDocument/2006/relationships/hyperlink" Target="http://www.din.de/de/mitwirken/normenausschuesse/nqsz/nationale-gremien/wdc-grem:din21:54748182" TargetMode="External"/><Relationship Id="rId57" Type="http://schemas.openxmlformats.org/officeDocument/2006/relationships/hyperlink" Target="http://www.din.de/de/mitwirken/normenausschuesse/nqsz/internationale-gremien/wdc-grem:din21:58803681" TargetMode="External"/><Relationship Id="rId58" Type="http://schemas.openxmlformats.org/officeDocument/2006/relationships/hyperlink" Target="http://www.din.de/de/mitwirken/normenausschuesse/nqsz/internationale-gremien/wdc-grem:din21:58803681" TargetMode="External"/><Relationship Id="rId59" Type="http://schemas.openxmlformats.org/officeDocument/2006/relationships/hyperlink" Target="http://www.din.de/de/mitwirken/normenausschuesse/nqsz/internationale-gremien/wdc-grem:din21:58803681" TargetMode="External"/><Relationship Id="rId60" Type="http://schemas.openxmlformats.org/officeDocument/2006/relationships/hyperlink" Target="http://www.din.de/de/mitwirken/normenausschuesse/nqsz/internationale-gremien/wdc-grem:din21:58803681" TargetMode="External"/><Relationship Id="rId61" Type="http://schemas.openxmlformats.org/officeDocument/2006/relationships/hyperlink" Target="http://www.din.de/de/mitwirken/normenausschuesse/nqsz/internationale-gremien/wdc-grem:din21:58803681" TargetMode="External"/><Relationship Id="rId62" Type="http://schemas.openxmlformats.org/officeDocument/2006/relationships/hyperlink" Target="http://www.din.de/de/mitwirken/normenausschuesse/nqsz/internationale-gremien/wdc-grem:din21:58803681" TargetMode="External"/><Relationship Id="rId6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280" y="3508200"/>
            <a:ext cx="6335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 Narrow"/>
              </a:rPr>
              <a:t>Др. Марина Эггерт, Международный эксперт </a:t>
            </a:r>
            <a:r>
              <a:rPr b="1" lang="de-DE" sz="1800" spc="-1" strike="noStrike">
                <a:solidFill>
                  <a:srgbClr val="003366"/>
                </a:solidFill>
                <a:latin typeface="Arial Narrow"/>
              </a:rPr>
              <a:t>DI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Bishkek, Kyrgyzstan</a:t>
            </a: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January 2016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760" y="242892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Комитет по стандартизации </a:t>
            </a:r>
            <a:r>
              <a:rPr b="0" lang="de-DE" sz="2400" spc="-1" strike="noStrike">
                <a:solidFill>
                  <a:srgbClr val="002b5c"/>
                </a:solidFill>
                <a:latin typeface="Tahoma"/>
              </a:rPr>
              <a:t>DIN </a:t>
            </a: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в области менеджмента качества</a:t>
            </a:r>
            <a:r>
              <a:rPr b="0" lang="de-DE" sz="2400" spc="-1" strike="noStrike">
                <a:solidFill>
                  <a:srgbClr val="002b5c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 статистики и основ сертификации</a:t>
            </a:r>
            <a:endParaRPr b="0" lang="en-US" sz="24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5280" y="626760"/>
            <a:ext cx="66247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Комитет по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c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тандартизации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в области менеджмента качества, статистики и основ сертификации(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NQSZ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)отвечает за национальную стандартизацию в следующих областях: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Менеджмент качества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Прикладная статистика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Основы оценки соответствия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Менеджмент проектов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Количественный анализ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В данных областях он также участвует в международной и европейской стандартизациях. 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NQSZ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стремится к внедрению германских стандартов в областях своей компетенции в тех сферах жизни, которые они затрагивают.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0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A3A-9817-47DC-92DD-E6B93F6C606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2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915840"/>
            <a:ext cx="56275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1"/>
              </a:rPr>
              <a:t>NA 147 BR</a:t>
            </a:r>
            <a:r>
              <a:rPr b="0" lang="ru-RU" sz="2000" spc="-1" strike="noStrike">
                <a:solidFill>
                  <a:srgbClr val="2e9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Совет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2"/>
              </a:rPr>
              <a:t>NA 147-00-01 AA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 СМК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3"/>
              </a:rPr>
              <a:t>NA</a:t>
            </a:r>
            <a:r>
              <a:rPr b="0" lang="ru-RU" sz="2000" spc="-1" strike="noStrike" u="sng">
                <a:solidFill>
                  <a:srgbClr val="ed6464"/>
                </a:solidFill>
                <a:uFillTx/>
                <a:latin typeface="Arial"/>
                <a:hlinkClick r:id="rId4"/>
              </a:rPr>
              <a:t> 147-00-02 </a:t>
            </a: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5"/>
              </a:rPr>
              <a:t>AA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 Прикладная статистика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6"/>
              </a:rPr>
              <a:t>NA 147-00-03 AA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 Сертификация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7"/>
              </a:rPr>
              <a:t>NA 147-00-04 AA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 Менеджмент проектов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8"/>
              </a:rPr>
              <a:t>NA 147-00-06 AA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 Количественныйанализ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9"/>
              </a:rPr>
              <a:t>NA</a:t>
            </a:r>
            <a:r>
              <a:rPr b="0" lang="ru-RU" sz="2000" spc="-1" strike="noStrike" u="sng">
                <a:solidFill>
                  <a:srgbClr val="ed6464"/>
                </a:solidFill>
                <a:uFillTx/>
                <a:latin typeface="Arial"/>
                <a:hlinkClick r:id="rId10"/>
              </a:rPr>
              <a:t> 147-00-07 </a:t>
            </a:r>
            <a:r>
              <a:rPr b="0" lang="de-DE" sz="2000" spc="-1" strike="noStrike" u="sng">
                <a:solidFill>
                  <a:srgbClr val="ed6464"/>
                </a:solidFill>
                <a:uFillTx/>
                <a:latin typeface="Arial"/>
                <a:hlinkClick r:id="rId11"/>
              </a:rPr>
              <a:t>GA </a:t>
            </a:r>
            <a:r>
              <a:rPr b="0" lang="ru-RU" sz="2000" spc="-1" strike="noStrike" u="sng">
                <a:solidFill>
                  <a:srgbClr val="ed6464"/>
                </a:solidFill>
                <a:uFillTx/>
                <a:latin typeface="Arial"/>
                <a:hlinkClick r:id="rId12"/>
              </a:rPr>
              <a:t>аудиты</a:t>
            </a:r>
            <a:r>
              <a:rPr b="0" lang="ru-RU" sz="2000" spc="-1" strike="noStrike" u="sng">
                <a:solidFill>
                  <a:srgbClr val="ed6464"/>
                </a:solidFill>
                <a:uFillTx/>
                <a:latin typeface="Arial"/>
                <a:hlinkClick r:id="rId13"/>
              </a:rPr>
              <a:t> - действие приостановлено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45880" indent="-245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2A6-9BEE-4758-80A5-BEE1AA071CC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53" name="Rechteck 4"/>
          <p:cNvSpPr/>
          <p:nvPr/>
        </p:nvSpPr>
        <p:spPr>
          <a:xfrm>
            <a:off x="468360" y="843120"/>
            <a:ext cx="5975280" cy="322236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195120"/>
            <a:ext cx="82296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58"/>
                </a:solidFill>
                <a:latin typeface="Arial"/>
              </a:rPr>
              <a:t>Национальные советы </a:t>
            </a:r>
            <a:r>
              <a:rPr b="1" lang="de-DE" sz="2000" spc="-1" strike="noStrike">
                <a:solidFill>
                  <a:srgbClr val="002958"/>
                </a:solidFill>
                <a:latin typeface="Arial"/>
              </a:rPr>
              <a:t>NA</a:t>
            </a:r>
            <a:r>
              <a:rPr b="1" lang="ru-RU" sz="2000" spc="-1" strike="noStrike">
                <a:solidFill>
                  <a:srgbClr val="002958"/>
                </a:solidFill>
                <a:latin typeface="Arial"/>
              </a:rPr>
              <a:t> 147</a:t>
            </a:r>
            <a:r>
              <a:rPr b="1" lang="de-DE" sz="20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2958"/>
                </a:solidFill>
                <a:latin typeface="Arial"/>
              </a:rPr>
              <a:t>Количество: 7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C11-6396-49E8-B5C1-676271CEEBF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700200"/>
          <a:ext cx="7056360" cy="3890880"/>
        </p:xfrm>
        <a:graphic>
          <a:graphicData uri="http://schemas.openxmlformats.org/drawingml/2006/table">
            <a:tbl>
              <a:tblPr/>
              <a:tblGrid>
                <a:gridCol w="1322280"/>
                <a:gridCol w="4662360"/>
                <a:gridCol w="1071720"/>
              </a:tblGrid>
              <a:tr h="7081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е обозначение</a:t>
                      </a:r>
                      <a:endParaRPr b="0" lang="en-US" sz="1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раз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ения</a:t>
                      </a:r>
                      <a:endParaRPr b="0" lang="en-US" sz="1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7837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NA 147 B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нсультативный совет комитета по стандартизаци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DIN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в области менеджмента качества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статистики и основ сертификаци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NQSZ)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Beirat des DIN-Normenausschusses Qualitätsmanagement, Statistik und Zertifizierungsgrundlagen (NQSZ)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27036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NA 147-00-01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Менеджмент качества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Qualitätsmanagement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2707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NA 147-00-02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Прикладная статистика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Angewandte Statistik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Основысертификаци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основыоценкисоответствия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)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Zertifizierungsgrundlagen (Grundlagen zur Konformitätsbewertung)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2707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NA 147-00-04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Менеджмент проектов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0"/>
                        </a:rPr>
                        <a:t>Projektmanagement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59148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1"/>
                        </a:rPr>
                        <a:t>NA 147-00-06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ОбщественныйкомитетСоюзанемецкихинженеров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GPP/DIN «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личественныйанализ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»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2"/>
                        </a:rPr>
                        <a:t>Gemeinschaftsausschuss VDI-GPP/DIN "Wertanalyse"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57420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3"/>
                        </a:rPr>
                        <a:t>NA 147-00-07 GA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4"/>
                        </a:rPr>
                        <a:t>- 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5"/>
                        </a:rPr>
                        <a:t>действие приостановлено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Совместный рабочий комитет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NQSZ/NAL/NASG/NAGUS: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аудиты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6"/>
                        </a:rPr>
                        <a:t>Gemeinschaftsarbeitsausschuss NQSZ/NAL/NASG/NAGUS:Audits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560" y="339480"/>
            <a:ext cx="70578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Европейские советы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147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  – 1 -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ыше указанный комитет по стандартизации сопровождает следующие международные советы на национальном уровне. У соответствующе обозначенных советов секретариат находится при 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.Название совета ссылается на внутреннюю область международного совета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8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2652-DBE2-43C7-9310-775A1A1C9C6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870200"/>
          <a:ext cx="6769080" cy="2581200"/>
        </p:xfrm>
        <a:graphic>
          <a:graphicData uri="http://schemas.openxmlformats.org/drawingml/2006/table">
            <a:tbl>
              <a:tblPr/>
              <a:tblGrid>
                <a:gridCol w="1225440"/>
                <a:gridCol w="3189240"/>
                <a:gridCol w="1176480"/>
                <a:gridCol w="1177920"/>
              </a:tblGrid>
              <a:tr h="40320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е обозначение 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тный форум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ьный совет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5936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CEN/TC 279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: B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личественныйанализ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анализстоимост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функциональныйанализ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Value Management - Wertanalyse, Funktionenanalyse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NA 147-00-06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59220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CEN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0"/>
                        </a:rPr>
                        <a:t> 279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1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2"/>
                        </a:rPr>
                        <a:t> 2_x000b_Секретариат: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3"/>
                        </a:rPr>
                        <a:t>B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личественныйанализ, анализстоимости, функциональныйанализ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4"/>
                        </a:rPr>
                        <a:t>Value Management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5"/>
                        </a:rPr>
                        <a:t>,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6"/>
                        </a:rPr>
                        <a:t>Wertanalyse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7"/>
                        </a:rPr>
                        <a:t>,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8"/>
                        </a:rPr>
                        <a:t>Funktionenanalyse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9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0"/>
                        </a:rPr>
                        <a:t>NA 147-00-06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59220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1"/>
                        </a:rPr>
                        <a:t>CEN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2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3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4"/>
                        </a:rPr>
                        <a:t> 279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5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6"/>
                        </a:rPr>
                        <a:t> 3_x000b_Секретариат: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7"/>
                        </a:rPr>
                        <a:t>AFNO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Функциональный анализ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8"/>
                        </a:rPr>
                        <a:t>Funktionalanalyse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9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0"/>
                        </a:rPr>
                        <a:t>NA 147-00-06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39996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1"/>
                        </a:rPr>
                        <a:t>CEN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2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3"/>
                        </a:rPr>
                        <a:t>CL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4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5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6"/>
                        </a:rPr>
                        <a:t> 1_x000b_Секретариат: 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7"/>
                        </a:rPr>
                        <a:t>B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ритерии для органов оценки соответствия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8"/>
                        </a:rPr>
                        <a:t>Kriterien für Konformitätsbewertungsstellen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9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0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626760"/>
            <a:ext cx="82296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Европейские советы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147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  – 2 -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1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A80-719A-4842-9114-97853ECCCB0A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1330200"/>
          <a:ext cx="6408720" cy="2567160"/>
        </p:xfrm>
        <a:graphic>
          <a:graphicData uri="http://schemas.openxmlformats.org/drawingml/2006/table">
            <a:tbl>
              <a:tblPr/>
              <a:tblGrid>
                <a:gridCol w="1160280"/>
                <a:gridCol w="3019680"/>
                <a:gridCol w="1114200"/>
                <a:gridCol w="1114560"/>
              </a:tblGrid>
              <a:tr h="4035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е обозначение 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тный форум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ьный совет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6901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CEN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BT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 62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- действие приостановлено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_x000b_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Сертификация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Zertifizierung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0"/>
                        </a:rPr>
                        <a:t>NA 147 B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6901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1"/>
                        </a:rPr>
                        <a:t>CEN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2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3"/>
                        </a:rPr>
                        <a:t>BT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4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5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6"/>
                        </a:rPr>
                        <a:t> 81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7"/>
                        </a:rPr>
                        <a:t>- действие приостановлено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8"/>
                        </a:rPr>
                        <a:t>_x000b_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Менеджмент качества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9"/>
                        </a:rPr>
                        <a:t>Qualitätsmanagement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0"/>
                        </a:rPr>
                        <a:t>NA 147 B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7837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1"/>
                        </a:rPr>
                        <a:t>CEN/TC 279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2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3"/>
                        </a:rPr>
                        <a:t>: B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личественныйанализ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анализстоимост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функциональныйанализ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4"/>
                        </a:rPr>
                        <a:t>Value Management - Wertanalyse, Funktionenanalyse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6"/>
                        </a:rPr>
                        <a:t>NA 147-00-06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50560" y="195120"/>
            <a:ext cx="70578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Международные Советы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147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ыше указанный комитет по стандартизации сопровождает ледующие международные советы на национальном уровне. У соответствующе обозначенных советов секретариат находится при 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.Название совета ссылается на внутреннюю область международного совета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Количество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: 71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7AB-7F41-47D3-A52F-29E2AB891699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2085840"/>
          <a:ext cx="6840360" cy="2347920"/>
        </p:xfrm>
        <a:graphic>
          <a:graphicData uri="http://schemas.openxmlformats.org/drawingml/2006/table">
            <a:tbl>
              <a:tblPr/>
              <a:tblGrid>
                <a:gridCol w="1239840"/>
                <a:gridCol w="3220920"/>
                <a:gridCol w="1190520"/>
                <a:gridCol w="1189080"/>
              </a:tblGrid>
              <a:tr h="40320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е обозначение 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тный форум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ьный совет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59400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ISO/CASCO/STTF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: AENO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Рабочая группа по переводу на испанский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Arbeitsgruppe Spanisch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-Ü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bersetzung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56520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ISO/CASCO/WG 42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0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1"/>
                        </a:rPr>
                        <a:t>: AFNO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Общиетребования к органам аккредитации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2"/>
                        </a:rPr>
                        <a:t>Allgemeine Anforderungen für Akkreditierungsstellen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3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4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78552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5"/>
                        </a:rPr>
                        <a:t>ISO/CASCO/JWG 43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6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7"/>
                        </a:rPr>
                        <a:t>: ISO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Совместная рабочая группа 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ISO/CASCO: </a:t>
                      </a: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переработка руководства 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ISO 34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8"/>
                        </a:rPr>
                        <a:t>Gemeinsame Arbeitsgruppe ISO/CASCO - ISO/REMCO: Überarbeitung des ISO Guide 34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9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0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24000" y="268200"/>
            <a:ext cx="82296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Международные Советы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147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7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BFC-E52C-4BD2-850C-80ACC915AEF0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95280" y="700200"/>
          <a:ext cx="6912000" cy="3921120"/>
        </p:xfrm>
        <a:graphic>
          <a:graphicData uri="http://schemas.openxmlformats.org/drawingml/2006/table">
            <a:tbl>
              <a:tblPr/>
              <a:tblGrid>
                <a:gridCol w="1252440"/>
                <a:gridCol w="3256200"/>
                <a:gridCol w="1201680"/>
                <a:gridCol w="1201680"/>
              </a:tblGrid>
              <a:tr h="40356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е обозначение 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тный форум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ьный совет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ISO/CASCO/WG 44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: AN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Ревизия </a:t>
                      </a:r>
                      <a:r>
                        <a:rPr b="0" lang="en-US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ISO/IEC 17025 (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Revision of ISO/IEC 17025</a:t>
                      </a:r>
                      <a:r>
                        <a:rPr b="0" lang="en-US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59148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IS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CASC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0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1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2"/>
                        </a:rPr>
                        <a:t> 45_x000b_Секретариат: 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3"/>
                        </a:rPr>
                        <a:t>ISO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Пример для программы сертификации услуг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4"/>
                        </a:rPr>
                        <a:t>Beispiel für ein Zertifizierungsprogramm für Dienstleistungen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6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7"/>
                        </a:rPr>
                        <a:t>IS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8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19"/>
                        </a:rPr>
                        <a:t>CASC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0"/>
                        </a:rPr>
                        <a:t>/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1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2"/>
                        </a:rPr>
                        <a:t> 46_x000b_Секретариат: </a:t>
                      </a:r>
                      <a:r>
                        <a:rPr b="0" lang="en-US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3"/>
                        </a:rPr>
                        <a:t>S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Валидация и верификация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4"/>
                        </a:rPr>
                        <a:t>Validierung und Verifizierung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6"/>
                        </a:rPr>
                        <a:t>NA 147-00-03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7"/>
                        </a:rPr>
                        <a:t>ISO/TC 69_x000b_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8"/>
                        </a:rPr>
                        <a:t>Секретариат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29"/>
                        </a:rPr>
                        <a:t>: ANSI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Применение статистических методов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0"/>
                        </a:rPr>
                        <a:t>Anwendung statistischer Verfahren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1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2"/>
                        </a:rPr>
                        <a:t>NA 147-00-02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3"/>
                        </a:rPr>
                        <a:t>IS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4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5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6"/>
                        </a:rPr>
                        <a:t> 69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7"/>
                        </a:rPr>
                        <a:t>CA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8"/>
                        </a:rPr>
                        <a:t>_x000b_Секретариат: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39"/>
                        </a:rPr>
                        <a:t>AFNOR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Консультативная группа председателей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0"/>
                        </a:rPr>
                        <a:t>Beratungsgruppe des Vorsitzenden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1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2"/>
                        </a:rPr>
                        <a:t>NA 147-00-02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97596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3"/>
                        </a:rPr>
                        <a:t>IS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4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5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6"/>
                        </a:rPr>
                        <a:t> 69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7"/>
                        </a:rPr>
                        <a:t>AH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8"/>
                        </a:rPr>
                        <a:t> 1_x000b_Секретариат: 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49"/>
                        </a:rPr>
                        <a:t>DSM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Подтверждающие документы для использования стандартов для статистических методов (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0"/>
                        </a:rPr>
                        <a:t>Unterst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1"/>
                        </a:rPr>
                        <a:t>ü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2"/>
                        </a:rPr>
                        <a:t>tzende Dokumente f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3"/>
                        </a:rPr>
                        <a:t>ü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4"/>
                        </a:rPr>
                        <a:t>r die Anwendung von Normen zu statistischen Verfahren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5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6"/>
                        </a:rPr>
                        <a:t>NA 147-00-02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399240"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7"/>
                        </a:rPr>
                        <a:t>ISO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8"/>
                        </a:rPr>
                        <a:t>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59"/>
                        </a:rPr>
                        <a:t>TC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0"/>
                        </a:rPr>
                        <a:t> 69/</a:t>
                      </a:r>
                      <a:r>
                        <a:rPr b="0" lang="de-DE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1"/>
                        </a:rPr>
                        <a:t>WG</a:t>
                      </a:r>
                      <a:r>
                        <a:rPr b="0" lang="ru-RU" sz="1100" spc="-1" strike="noStrike" u="sng">
                          <a:solidFill>
                            <a:srgbClr val="ed6464"/>
                          </a:solidFill>
                          <a:uFillTx/>
                          <a:latin typeface="Calibri"/>
                          <a:ea typeface="Calibri"/>
                          <a:hlinkClick r:id="rId62"/>
                        </a:rPr>
                        <a:t> 3_x000b_Секретариат: 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DS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Статистический анализ данных</a:t>
                      </a:r>
                      <a:r>
                        <a:rPr b="0" lang="de-DE" sz="1100" spc="-1" strike="noStrike">
                          <a:solidFill>
                            <a:srgbClr val="002b5c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Statistische Auswertung von Daten)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URL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lIns="9360" rIns="9360" tIns="7200" bIns="7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1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Calibri"/>
                        </a:rPr>
                        <a:t>NA 147-00-02 AA</a:t>
                      </a:r>
                      <a:endParaRPr b="0" lang="en-US" sz="11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2:33:25Z</dcterms:created>
  <dc:creator>Dominique Gaensecke</dc:creator>
  <dc:description/>
  <dc:language>en-US</dc:language>
  <cp:lastModifiedBy>Salmorbek Asanaliev</cp:lastModifiedBy>
  <dcterms:modified xsi:type="dcterms:W3CDTF">2016-06-16T08:34:58Z</dcterms:modified>
  <cp:revision>623</cp:revision>
  <dc:subject/>
  <dc:title>PowerPoint-Präsentation</dc:title>
</cp:coreProperties>
</file>